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D127-93AA-440E-BB9C-2E93FD27568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811F-FFAD-473E-8C61-EF7A5B24BB5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92A9-35E9-4BE0-BCC5-A117FAAA606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COMMENT ON LETTERS TO THE EDI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23EC-7ED1-41D6-A300-6A31C3B353C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890F-CF6A-4764-BEBA-E9AD7E9830E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F908-2E5B-4455-92C8-B824C1D5434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F73A-6559-4D24-A1C7-51BE9356E79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532C-EF9A-48AD-A675-F3966F84323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766D-70D2-46FF-A01A-B36F8C85A05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FCE4-EA4E-4552-A3D3-6615BD0474B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5A08-CCCF-4C7E-8A10-A2B8A33F17E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18EB-0D61-4141-AD4B-EBBE99F0900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6C5F-E14A-42EC-8C09-40472A89FF2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CADC-4B33-4D74-80BC-6A408FE60CA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9F55-FFCF-465E-A48A-22657F2993B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DBE0-A1EB-479D-9D21-1D4CA23BE0C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C61F-88AF-4147-A5CD-A7E5923CF3B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A4CE-D3AF-4E14-A8AB-68C7F029659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773B-FEE4-4FE0-A09B-DFA52622838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CC0A-E38E-4AD4-A539-5700F1E9643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2BC0-2B2D-4F9E-B021-48F71F2262E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8602-8038-40DF-9F59-D89AAC76F76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B104-8441-4629-A522-BE9055D1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6D6-377A-4E22-B302-46E31A61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52E-DA39-4908-996A-41946B37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0EB-188A-43D1-9431-47183FEC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5861-4889-4425-A814-F6F6D29A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A096-9BA7-4183-AD2F-0BCD88B2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AEBD-1145-490E-8FA2-D89A701B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415D-13FF-4887-A5D2-3F94F139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A09E-5BFB-401B-ABB4-260C1BE4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BBE-FD3D-4808-8D35-45211DC3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7C77-35AE-4F36-8033-094A01B9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28D-A51B-4851-BD29-6D8BD7D1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03F3-B988-468F-B342-630080CD9289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MANAGEMENT  OF ALCOHOL WITHDRAWAL  IN A GENERAL HOSPITAL SETTING- CL PSYCHIATRY PERSP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98989"/>
                </a:solidFill>
                <a:latin typeface="Calibri"/>
              </a:rPr>
              <a:t>R.HEWKO  MD  FRCP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98989"/>
                </a:solidFill>
                <a:latin typeface="Calibri"/>
              </a:rPr>
              <a:t>CL PSYCHIATR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898989"/>
                </a:solidFill>
                <a:latin typeface="Calibri"/>
              </a:rPr>
              <a:t>rhewko@telus.n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52 % - 64/124 OF PATIENTS RX DID NOT MEET INCLUSION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4 % - 9 PTS UNABLE TO COMMUNIC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55 % - 35 PTS HAD NO RECENT ALCOHOL H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1 % - 20 PTS MET NEITHER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IWA DEVOPMENT AND  VALI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RIVATE HOSPITAL DET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AGE &lt; 60 YRS O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TS MEDICALLY CL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GEN. HOSPTIAL STUD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XCLUSION CRITERIA - AG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-SEVERITY OF ILL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REPRINTED 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VELOPED BY AS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300 PTS. IN A VA DET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3 PTS OVER AGE 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PTS MEDICALLY CL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NICAL LITERATURE – BENZODIAZEPI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NTS OF CH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-ANALYSIS HOSPITAL BASED MANAGEMENT OF 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LBROOK,CMAJ,MAR 9,1999. 160(5) 649-6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ITIVE STUDIES – BENZO’S. NEUROLEPTICS, ANTICONVULSANTS, CHLORAL HYD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ZODIAZIPINES SAFE AND EFFECTI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T OF CHOICE FOR TREATMENT OF A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BENZODIAZEPINE SUPERIOR IN EFFICACY /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70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LIMIT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1 “GOOD”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’s 20-30 PATIENTS PER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AN AGE 35-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5 STUDIES LTD PTS TO MILD ILL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LL STUDIES EXCLUDED SEVERELY 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IWA PROTOCAL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ADVANTAGES = DISADVANT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ASE AND EFFICIE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HYSICIAN INVOL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“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IDENTIFY” AT RISK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INITIATE CIWA – TICK BOX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NURSING STAFF MANAGE THE PATIENT ON “AUTOPILOT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-ASSESS CIWA SCO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-GIVE BENZOS UNTIL SCORE &lt;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MINIMAL ONGOING PHYSICIAN INVOL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IMPLICATIONS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CIWA PROTOC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VALIDATED FOR RELATIVELY YOUNG, HEALTHY P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PTS INAPPROPRIATELY STARTED INTO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OST PHYSICIANS UNAWARE OF LIMIT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INIMAL FORMAL TE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LIMITED PHYSICIAN MONIT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DELAYED RECOGNITION OF CO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POTENTIAL FOR SIGNIFICANT MORBIDITY/MORT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PSYCHIATRIC REFERRAL - ONGOING AGITATION / CONFUSI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- DELIRI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DELIRIUM – ALCOHOL HX / SEQUELAE OF CIWA PROTOC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D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T’S 1/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ELIRIUM “OTHER” ET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BENZODIAZEPINE INTOX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AW AND DELIRIUM OTHER ET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ELIRIUM AND BENZO INTOX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SSESSMENT/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VIDENCE / ABSENCE OF AUTONOMIC AROUSAL (A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AA CONTINUE BENZO’S ADD NEUROLEPTICS REG/P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DROWSY / MIN. AA - TAPER BENZO’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TITRATE REG/PRN NEUROLEP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NORMALIZE SLEEP - QUETIA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AW - MAJOR AUTONOMIC AROUS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FRACTORY 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AGGRESSIVE BENZO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LORAZEPAM 2-4 mg QIH P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REG. BENZO’S – LORAZEPAM / DIAZEP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HYPOMAGNESEMIA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DISCL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OTHING TO DISCL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YPOMAGNES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COMMON ISSUE IN PATIENTS AT RISK -MAJOR 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YPOMAG.  - INCR. RISK /SEVERITY OF 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INCR. RISK SEIZURES / SEIZURE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REFRACTORY HYPOKAL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REFRACTORY WITHDRAWA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BENZO INSENSI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ANIMAL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REPLACEMENT – 5 GMs IV Q12H/Q8H 3-6 DO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FRACTORY DELI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42 Y/O MALE – ONGOING DELI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AY 4 – DROWSY/ DISORIE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VERAGING 10 mg LORAZEPAM LAST 2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NFUSION/NYSTAGMOUS/ATAX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X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X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ERNICKE’S ENCEPHALOPAT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AMINE DE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DICAL EMERG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0 % NEUROLOGIC SEQUELAE EVEN WITH 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X - THIAM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PARENTERAL IM/IV 100m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AT LEAST 3 D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RELIABLE UNTIL ORAL IN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IWA PROTOCOL NOT VALIDATED IN EDLERLY MEDICALLY COMPRI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VERUSED WITH INADEQUATE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OSS OF CLINICAL SKILLS / JUD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IGNIFICANT INCIDENCE RESIDUAL DELI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LAW SUIT WAITING TO HAPPEN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L PSYCHIARTY ROLE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IMARY MANAGMEN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CONDARY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FAILED PRIMARY SERVICE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- DEPENDANT ON UNDERSTANDING PRIMARY SERVICE MODEL – CIWA PROTOC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IWA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IW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CLINICAL INSTITUTE WITHDRAWAL ASSESSMENT -ALCOH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9 ITEMS ASSESSED BY NURSING STA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LINKED TO A PREPRINTED ORDER 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PRIMARY AGENTS - BENZODIAZP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32814" t="14693" r="29218" b="5669"/>
          <a:stretch/>
        </p:blipFill>
        <p:spPr>
          <a:xfrm>
            <a:off x="2071800" y="214200"/>
            <a:ext cx="507204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32346" t="14693" r="27813" b="2575"/>
          <a:stretch/>
        </p:blipFill>
        <p:spPr>
          <a:xfrm>
            <a:off x="2071800" y="214200"/>
            <a:ext cx="5143320" cy="64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IWA PROTOCOL - 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VIDENCE BASE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QUIRE LESS BENZO’S THAN FIXED DOSE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NSISTANT TREAT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INIMAL PHYSICIAN INVOV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RIMARILY NURSING BASED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NE SIZE FITS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YO CLINIC ARTI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ITLE – Inappropriate use of Symptom-Triggered Therapy for Alcohol Withdrawal in the General Hos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uthors – KA Hecksel, JM Bostwick, TM Jae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Ref. Mayo Clin. Proc. 2008;83(3):2004 274-27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124 OF 495 PATIENTS RX WITH CIWA PROTOCOL IN TWO MAYO CLINIC AFFILIATED HOSPT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RANDOM SELECTION ACCOUNTING FOR AGE/G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DMISSION CRITERIA FOR CIWA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ALES - &gt; 4 DRINKS /DAY WK PRIOR TO HOS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FEMALES - &gt; 2 DRINKS /DAY WK PRIOR TO HOS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BLE TO COMMUNICATE MEANINGFU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4:00:58Z</dcterms:created>
  <dc:creator>RAH</dc:creator>
  <dc:description/>
  <dc:language>en-US</dc:language>
  <cp:lastModifiedBy>Peter</cp:lastModifiedBy>
  <dcterms:modified xsi:type="dcterms:W3CDTF">2009-10-26T21:17:22Z</dcterms:modified>
  <cp:revision>8</cp:revision>
  <dc:subject/>
  <dc:title>MANAGEMENT  OF ALCOHOL WITHDRAWAL  IN A GENERAL HOSPITAL SETTING- CL PSYCHIATRY PERSPEC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